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650883"/>
        <c:axId val="55375768"/>
      </c:barChart>
      <c:catAx>
        <c:axId val="265088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375768"/>
        <c:crosses val="autoZero"/>
        <c:auto val="1"/>
        <c:lblAlgn val="ctr"/>
        <c:lblOffset val="100"/>
        <c:noMultiLvlLbl val="0"/>
      </c:catAx>
      <c:valAx>
        <c:axId val="5537576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5088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AED8D-D3C5-4EE0-BDF8-0B491DB63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50D36-919B-4254-9EDB-4576B55A5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B5B3E-1F91-4F4B-98C1-56563CC1D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7C4DC-5F4B-4FA2-8C18-751AB7667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8137A-FBDF-415A-999D-8762A254C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595EF-B002-489F-AE41-76F699DCB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8EA23-C9D2-440C-AFFD-E4AD070D5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08FA8-5583-4FEE-BFFC-F36E07497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E5FFC-7B89-4865-8BCD-6DDD8BA65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D9D9B-4B76-49F2-933D-0E32980AE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BC85F-78E1-457C-8F42-FEA1A0F8C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F8839-DE3E-40E5-AEA5-644841E02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B711CA-169D-498A-B2F8-7CED77CE6FF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