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01868"/>
        <c:axId val="49797193"/>
      </c:barChart>
      <c:catAx>
        <c:axId val="53001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97193"/>
        <c:crosses val="autoZero"/>
        <c:auto val="1"/>
        <c:lblAlgn val="ctr"/>
        <c:lblOffset val="100"/>
        <c:noMultiLvlLbl val="0"/>
      </c:catAx>
      <c:valAx>
        <c:axId val="49797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01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030-0B40-4AA3-8AA9-1BEDB5C8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ACE-F216-4B24-BAC3-3C9516D4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F73-1469-47F8-BF75-56ACD3C5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D49-021B-462A-AA83-B839DE38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28C-220F-456C-A320-2642CEEA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056-FD58-4D79-B66F-FB0DC3C1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A5C-F22D-4971-B3B3-36964ED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36C-091D-4594-9941-62CA9319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936-1089-46F9-825E-92D76B35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5AA-F1B7-4083-9D10-71D8E74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1E2-97AB-489F-A8B6-4B6DE860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D6A-6308-4523-96B0-C02F94C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A0115-C697-45E6-A675-0476D2F804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