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75017"/>
        <c:axId val="93880381"/>
      </c:barChart>
      <c:catAx>
        <c:axId val="99275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80381"/>
        <c:crosses val="autoZero"/>
        <c:auto val="1"/>
        <c:lblAlgn val="ctr"/>
        <c:lblOffset val="100"/>
        <c:noMultiLvlLbl val="0"/>
      </c:catAx>
      <c:valAx>
        <c:axId val="93880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75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7B9-ADA7-4628-A15D-CFB72077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C63-34B5-433E-8C7B-650A9FC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7E6-B8BA-470F-8810-72129B5C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FB6-142F-4AF8-A1B1-761E8BDB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8C6-9495-472F-A495-9FCD7C79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389-E2F0-4768-BA09-ABA2EAD4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179-9C87-4634-9B4C-781CFD28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D12-D9CB-493E-ACA0-AFE328CB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15F-0DCE-42E2-A746-75D2BFDC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45F-7EAE-44D8-A505-771915A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9DF-32EC-4D9B-A064-2AE7C912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DF7-3DDA-43A1-9898-6E37C8D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6CFDC-F595-4128-9A23-02848359C2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