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26680"/>
        <c:axId val="55631502"/>
      </c:barChart>
      <c:catAx>
        <c:axId val="92526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31502"/>
        <c:crosses val="autoZero"/>
        <c:auto val="1"/>
        <c:lblAlgn val="ctr"/>
        <c:lblOffset val="100"/>
        <c:noMultiLvlLbl val="0"/>
      </c:catAx>
      <c:valAx>
        <c:axId val="55631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26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299-D286-4826-875A-9C100154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E9A-A8DA-43C1-BADC-F1B7BDE8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979-D012-4916-A985-CC3D504E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A927-57BA-49BC-BBAF-D4CF4E90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5C0-4356-466B-B914-BE508936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BB7-F7F4-4B1B-A484-83E25128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58A-4916-4BF3-8A76-B7C2ED8C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28A-59A5-4B6E-8E45-D1FBAA13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1C3-4C83-4E76-8726-15D4ABF0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5D4-3D60-438D-9781-D1C7653F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223-BD59-40F8-8E23-1CB2FA50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B31-1C4D-44D9-96B7-83E67700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65744-A178-43DB-8E95-BEFF49D2C9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