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955115"/>
        <c:axId val="26165037"/>
      </c:barChart>
      <c:catAx>
        <c:axId val="759551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65037"/>
        <c:crosses val="autoZero"/>
        <c:auto val="1"/>
        <c:lblAlgn val="ctr"/>
        <c:lblOffset val="100"/>
        <c:noMultiLvlLbl val="0"/>
      </c:catAx>
      <c:valAx>
        <c:axId val="261650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9551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C871-5843-44D4-AF3B-9D369AC7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57F3-F563-4E37-B3EE-B0177F70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177B-125B-4625-98D4-16936BCFB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5E41-8725-4C3F-A143-043C23EBD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3AD1-006F-4E1D-838B-2F17C62D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574E-8382-4BFE-914B-7E6EFFB7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2862-6952-4A2F-BB2C-A6A14DFB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7339-B1E3-4431-A584-3E1337DB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32B0-710C-4425-8976-69361D77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3B91-723D-4474-B298-111B306C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5A7F-B885-43D3-A8D5-8F60D4AD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720F-F87A-4B7F-A19B-66C6EA23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51C7A-BB69-4E5A-B302-F106A6E60D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