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12443"/>
        <c:axId val="31866768"/>
      </c:barChart>
      <c:catAx>
        <c:axId val="44612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66768"/>
        <c:crosses val="autoZero"/>
        <c:auto val="1"/>
        <c:lblAlgn val="ctr"/>
        <c:lblOffset val="100"/>
        <c:noMultiLvlLbl val="0"/>
      </c:catAx>
      <c:valAx>
        <c:axId val="31866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12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9E44-9921-4920-9C59-600524F3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733-7FA3-467A-A635-3376ACEB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ADE-1469-4313-9829-08FF2EDE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A12-1B05-467D-8718-5FF0E5EE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FC62-4470-4811-B554-1A2943E2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42B-1BCB-451A-B235-7885B8CE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C9F-7D01-4853-AA67-3750568A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F5C-2A47-4E5C-86D4-B2CF96DF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BAB-4C86-49E8-BD23-59A5146F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834-862B-4B25-BA19-6FA66118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279-1B32-4920-AECC-502CF813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727-9FAE-4DB0-98BE-99227473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9440F-5047-4A78-B40A-91DF656D48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