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72703"/>
        <c:axId val="75494814"/>
      </c:barChart>
      <c:catAx>
        <c:axId val="20872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4814"/>
        <c:crosses val="autoZero"/>
        <c:auto val="1"/>
        <c:lblAlgn val="ctr"/>
        <c:lblOffset val="100"/>
        <c:noMultiLvlLbl val="0"/>
      </c:catAx>
      <c:valAx>
        <c:axId val="7549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2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786-857D-4E86-A57D-5E89E00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32B-61FA-4F87-AEA3-B1C06EA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262-50DF-4E5E-88CE-5FFCAEC9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031-B125-46D2-88B3-9655194B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FD4-A29A-4FFA-9E56-11E03D5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248-AB83-4B8A-803D-32F75DC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38C-3C05-4D7B-ABD7-B9FD56C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5A2-39B6-4630-8C0A-171173D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DD0-75B8-4AF5-979C-0DB97CC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084-96FF-4527-9D32-84F6520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B1C-E7EA-4F8C-A67C-DDABA27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492-63FD-4E7B-AF54-0683070E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2AAE8-CA7E-4E22-8DF8-18B422811A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