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6382"/>
        <c:axId val="76201966"/>
      </c:barChart>
      <c:catAx>
        <c:axId val="1636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01966"/>
        <c:crosses val="autoZero"/>
        <c:auto val="1"/>
        <c:lblAlgn val="ctr"/>
        <c:lblOffset val="100"/>
        <c:noMultiLvlLbl val="0"/>
      </c:catAx>
      <c:valAx>
        <c:axId val="76201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6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65C-D066-4B4A-864A-F98F9429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449-60D2-4396-82B9-30D6E399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697-31BC-4308-B7E2-81D9B6B6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4BF-D6A7-4D4B-8751-2CE5ABB6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DC5-9F7F-4624-9AB4-3594B96E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3C4-E109-465E-8576-B4FE750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B26-5299-4214-B6DA-6BEACBC6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9EE-1EB9-405E-B712-2D46726D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B82-6427-41FE-B614-02C706B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99F-E42D-475D-A4C9-26D1E89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833-D0E6-4ADE-9339-B1589DA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833-5893-4B10-BF51-0035A27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4BC26-9E00-4D6C-8B16-13694BE320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