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83342"/>
        <c:axId val="68312196"/>
      </c:barChart>
      <c:catAx>
        <c:axId val="84483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12196"/>
        <c:crosses val="autoZero"/>
        <c:auto val="1"/>
        <c:lblAlgn val="ctr"/>
        <c:lblOffset val="100"/>
        <c:noMultiLvlLbl val="0"/>
      </c:catAx>
      <c:valAx>
        <c:axId val="68312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83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726-EA07-4B95-814F-9731BD33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95E-24E4-4402-9985-091152A5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DF4-5CD2-4624-A062-012D0F4F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167-7B18-42F1-BCF5-1FBC92F2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FF6-B3EE-40D7-9B77-315BD96C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621-42FE-4CDF-899F-A6CCF08F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21B-606B-4C47-A2CC-ED7F9282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B28-12A3-4736-9C8C-F4290E89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234-2C96-4FD2-BC6A-8958DD1E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06F-3789-4C7E-9018-7A25147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71C-9BEE-45DE-9D6C-B73BF52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87E-D53F-4B9D-B457-B436F5EC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3ED67-69C7-4290-B245-E0BB5B4182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