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458811"/>
        <c:axId val="98742923"/>
      </c:barChart>
      <c:catAx>
        <c:axId val="794588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742923"/>
        <c:crosses val="autoZero"/>
        <c:auto val="1"/>
        <c:lblAlgn val="ctr"/>
        <c:lblOffset val="100"/>
        <c:noMultiLvlLbl val="0"/>
      </c:catAx>
      <c:valAx>
        <c:axId val="987429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4588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4CC6-676B-4613-8A21-8657C7A0F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7972-730F-4A23-A72C-68FFCD92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5651-3EF0-400B-8438-3FC4E7B60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271D-1D23-445A-9C96-8CCFA1E10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F5F0-9E7C-40F3-863C-CD2D7F3A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4C35-6B80-4236-BEB1-6A6C431E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A286-F61D-4C2D-BC5F-729C2BB7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50B1-0C9C-41BD-A049-152BA148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35C6-A78C-44B5-BBBF-63288921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0D18-B5E6-4C27-B50F-81CA393A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875F-3A36-4E29-BADB-3722602A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1C5F-680A-414E-961A-E42A537D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797C8A-92F0-4DF5-BD84-FF4A9EF9C1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